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CC18-BC3F-41BB-A750-39E147054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ity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ilitator may ask students to identify the most effective thesis statement from the three listed examples.  The first example, while a well-phrased informative sentence, offers a factual statement rather than an argumentative claim that needs to be proven.  The third example also fails to provide an effective claim about the value of the V-chip.  The second example is the strongest argumentative thesis; it clearly articulates the writer’s position on the issue and suggests that the writer will proceed to prove this claim throughout the rest of th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depression different for teenagers?  Females?  Ma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depressed patients take med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art therapy work for depres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esources do schools provide for depressed stud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some schools have more depressed students than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f the causes of depression?  Can it be preven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reatment would be the b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children have a say in the types of treatments they can g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rules for committing someone into a mental hospit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pression lead to other mental illn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Concept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finition of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is stat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offered in this slide.  The facilitator may choose to emphasize to students the difference between a claim that has to be proven and a statement of fa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mouse to reveal answers to the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2D0-8886-40AF-B544-B99EF721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C46F-1031-447E-9D89-5642FD00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946-862F-41C6-BC39-28ABDFE5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C4C-625B-4D21-9911-45FEF8AE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1C8C-6F80-437F-9D4D-FF747A02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0E8F-E7DA-4CC0-B069-40D89792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D8D4-45D6-47F6-8F3D-2E7905DC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E66A-6345-42EF-9EAC-0B635F96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CAFF-71FB-4F2B-847A-80B2E6ED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1647-2A13-4470-8D03-461E0231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8BB7-733B-4E36-870B-95132388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7806-3D9C-40F0-AFCD-A4744CEA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7A2E-73B6-4688-A622-8571C8FF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5DAD-90AC-469B-BFF0-4B81A328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775A-48A8-4E99-87E7-E5CBA030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45A2-BA39-4C65-880C-F8BEEF11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76CB-065E-4FE0-B242-117A8994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FCF5-3430-48B8-A518-B4073770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EDB-7F85-4CA0-9E3D-E11D8267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8178-0D7D-40B7-9EC9-FFBE51B6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EDEC-4FCB-46AC-9ABA-2549892B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7D7-0B27-40F6-8A5E-4E0329E8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5346-83B6-4DB7-9447-23B0B63D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B4BB-E18F-4C76-9410-9DBF844F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D165-8B77-4E23-A16A-C17B20BEDE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DCA2-5ECF-45E4-B86F-6E1D20B4CA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: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 due Monday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Research Questions, Thesis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Pre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6767ff"/>
                </a:solidFill>
                <a:latin typeface="Cool"/>
              </a:rPr>
              <a:t>Position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sition is YOUR point of view on the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EX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Patients suffering from depression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should avoid prescription medication and seek alternative treatment methods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77240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Cool"/>
              </a:rPr>
              <a:t>Rationale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nale is the reason behind your posi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EX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atients suffering from depression 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should avoid prescription medication and seek alternative treatment methods</a:t>
            </a:r>
            <a:r>
              <a:rPr b="1" lang="en-US" sz="3200" spc="-1" strike="noStrike">
                <a:solidFill>
                  <a:srgbClr val="d9d8ec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9933ff"/>
                </a:solidFill>
                <a:uFillTx/>
                <a:latin typeface="Arial"/>
              </a:rPr>
              <a:t>because the side affects of the medication does not effectively treat the source of the de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Cool"/>
              </a:rPr>
              <a:t>Although Clause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although clause” shows an awareness of opposing 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though some people feel that prescription drugs are necessa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ients suffering from depression should avoid prescription medication and seek alternative treatment methods because the side affects of the medication does not effectively treat the source of the de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6767ff"/>
                </a:solidFill>
                <a:latin typeface="Cool"/>
              </a:rPr>
              <a:t>Polish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r makes thesis concise (short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8ec"/>
                </a:solidFill>
                <a:latin typeface="Arial"/>
              </a:rPr>
              <a:t>EX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8ec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ough some argue that prescription drugs are necessary for certain patients suffering from depression, there are much safer methods that can treat the actual source of the depress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ch thesis statement is the most effective for an argument about the need for V-chips in television se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, often too busy to watch television shows with their families, can monitor their children’s viewing habits with the aid of the V-c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parents monitor their children’s viewing habits, the V-chip should be a required feature for television sets sold in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aper will describe a V-chip and examine the uses of the V-chip in American-made television s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ccccff"/>
                </a:solidFill>
                <a:latin typeface="Cool"/>
              </a:rPr>
              <a:t>YOU TRY IT!!!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HS students who are behind in credits by the end of their sophomore year should or should not be sent automatically to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McCain should or should not the next U.S. pres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ents of teens who are scheduled to have abortions should or should not be notified of their teen’s plans by medical profession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American celebrities should or should not adopt foreign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day:  Sources+Response 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9: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st at least 5 facts mentioned in the vide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oking at these facts, write one sentence that explains what the video was saying about depress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py H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d: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wr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sis State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½ day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s due tomorr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due Fri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is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thesis state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81280" y="205740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ST IMPORTANT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your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ckpoint for all main ideas and quo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factual statement, but a claim that has to be proven throughout th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6360" y="2362320"/>
          <a:ext cx="3418200" cy="37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2362320"/>
                    <a:ext cx="341820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search Ques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atabl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comparis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ypothesize why something happen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sta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u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What ext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would be more effecti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were the motives behind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ol"/>
              </a:rPr>
              <a:t>The Sheridan Baker Thesis Mach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chine has 5 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1) Topic &amp;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2)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3) Rat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4) Although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5) Po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772400" y="5486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ol"/>
              </a:rPr>
              <a:t>Topic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pic is what you will be discus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EX.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Ways to treat depres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77240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5:16:37Z</dcterms:created>
  <dc:creator>Tucker</dc:creator>
  <dc:description/>
  <dc:language>en-US</dc:language>
  <cp:lastModifiedBy>Tucker</cp:lastModifiedBy>
  <dcterms:modified xsi:type="dcterms:W3CDTF">2010-05-18T23:11:03Z</dcterms:modified>
  <cp:revision>3</cp:revision>
  <dc:subject/>
  <dc:title>Agenda</dc:title>
</cp:coreProperties>
</file>